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ADB-5049-4619-85B7-3309AABF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F7B6-567D-4FDE-94B6-C5261F07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58-C646-491A-BFDD-FFF16747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E65-BDEE-40AC-97F8-CB4FE0ED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29A3-E74C-49AD-A51B-267FE833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1684-FCD2-4D7B-80A5-6118C38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A9A0-48A3-4B4C-BCC8-9739493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A3E0-AFE7-4484-9788-692C49CC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D49-5218-4392-9E12-8C76DB3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76E2-B2B2-40F9-BF9E-E28334B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B866-8D6B-458E-8FB9-3E70C88E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3A0-BCB5-4110-B6B0-91DD35ED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93FC-7742-4945-BA92-4A73228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3562-55DE-4680-9420-CDFCCC64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F1AB-D7C4-45A2-BA16-30F1564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4EE7-E991-4C31-AC42-E19F8B46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0637-5677-4214-820D-A58EA09E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EC5-E130-4F75-ADA9-6EEDDAB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FB8-53D3-4719-8533-43D91E95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551-2F6E-496E-9ECC-1514D10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DA6-86E3-42B5-BD33-0393E16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7BC-9AB1-47FA-8B79-7B042AA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CCC-F143-45C2-8798-24657BA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B91-E15A-4F94-8258-92F11F96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055C-261B-4334-8AA4-4AF3ADEC69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41F8-0259-4E76-920B-17AE9FE85C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IGURAREA CALIT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ĂŢII ÎN ÎNVĂŢĂMÂNTUL PROFESIONAL ŞI TEHNIC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522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INISTERUL EDUCAŢIEI ŞI CERCETĂR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recţia Generală Învăţământ Preunivers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NDI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52280"/>
            <a:ext cx="44424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onţinutul activităţii de inspecţie şcolar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alitatea documentelor de proiectare şi planificare managerial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unoaşterea şi aplicarea componentelor curricula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espectarea legislaţiei din domeniul învăţământului în vigoa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ecvenţa elevilor şi preocupările directorilor şi ale cadrelor didactice pentru prevenirea şi diminuarea ratei abandonului şcola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nivelul de pregătire a elevilor în raport cu standardele educaţionale şi atitudinea acestora faţă de şcoală, de actul educaţiona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ealizarea şi aplicarea planului de măsuri elaborat în urma inspecţiilor sau controalelor efectuate de către ISJ/ISMB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organizarea şi desfăşurarea activităţilor extracurricula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elaţia şcolii, a cadrelor didactice cu familiile elevilo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sigurarea şi utilizarea resurselor informaţionale (documente curriculare, ghiduri, culegeri etc.) şi a resurselor material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apacitatea cadrelor didactice şi a conducerii de a comunica, analiza, diagnoza, prognoza, controla şi de a evalua procesul de învăţămâ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capacitatea cadrelor didactice de a se adapta la situaţii atipice în procesul de învăţa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o-RO" sz="3200" spc="-1" strike="noStrike">
                <a:solidFill>
                  <a:srgbClr val="66ffff"/>
                </a:solidFill>
                <a:latin typeface="Arial"/>
              </a:rPr>
              <a:t>JUDEŢELE</a:t>
            </a:r>
            <a:r>
              <a:rPr b="0" lang="ro-RO" sz="4000" spc="-1" strike="noStrike">
                <a:solidFill>
                  <a:srgbClr val="66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în care s-a efectuat inspecţia şcolară în anul şcolar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66ffff"/>
                </a:solidFill>
                <a:latin typeface="Arial"/>
              </a:rPr>
              <a:t>2005 -2006</a:t>
            </a:r>
            <a:r>
              <a:rPr b="0" lang="ro-RO" sz="3200" spc="-1" strike="noStrike">
                <a:solidFill>
                  <a:srgbClr val="66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Iaşi, Suceava, Botoş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Bihor, Satu – Mare, Săl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Argeş, Olt, Vâlc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Timiş, Hunedoara, Caraş-Sever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ffff"/>
                </a:solidFill>
                <a:latin typeface="Arial"/>
              </a:rPr>
              <a:t>Bucureşti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Iaşi, Suceava, Botoş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Bihor, Satu – Mare, Săl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Argeş, Olt, Vâlc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ffff"/>
                </a:solidFill>
                <a:latin typeface="Arial"/>
              </a:rPr>
              <a:t>Timiş, Hunedoara, Caraş-Sever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r de unităţi şcolare inspectate: 2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r de cadre didactice evaluate: 3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ffff"/>
                </a:solidFill>
                <a:latin typeface="Arial"/>
              </a:rPr>
              <a:t>Bucureş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r de unităţi şcolare inspectate: 1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r de cadre didactice evaluate: 1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09480" y="1839960"/>
            <a:ext cx="8228880" cy="3868200"/>
            <a:chOff x="609480" y="1839960"/>
            <a:chExt cx="8228880" cy="3868200"/>
          </a:xfrm>
        </p:grpSpPr>
        <p:cxnSp>
          <p:nvCxnSpPr>
            <p:cNvPr id="193" name="_s95247"/>
            <p:cNvCxnSpPr>
              <a:stCxn id="194" idx="0"/>
              <a:endCxn id="195" idx="2"/>
            </p:cNvCxnSpPr>
            <p:nvPr/>
          </p:nvCxnSpPr>
          <p:spPr>
            <a:xfrm flipH="1" flipV="1" rot="5400000">
              <a:off x="4628520" y="4595040"/>
              <a:ext cx="190800" cy="3960"/>
            </a:xfrm>
            <a:prstGeom prst="bentConnector3">
              <a:avLst>
                <a:gd name="adj1" fmla="val 398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6" name="_s95244"/>
            <p:cNvCxnSpPr>
              <a:stCxn id="197" idx="0"/>
              <a:endCxn id="198" idx="2"/>
            </p:cNvCxnSpPr>
            <p:nvPr/>
          </p:nvCxnSpPr>
          <p:spPr>
            <a:xfrm flipV="1" rot="16200000">
              <a:off x="6050880" y="1931760"/>
              <a:ext cx="228600" cy="2880360"/>
            </a:xfrm>
            <a:prstGeom prst="bentConnector3">
              <a:avLst>
                <a:gd name="adj1" fmla="val 495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95243"/>
            <p:cNvCxnSpPr>
              <a:stCxn id="195" idx="0"/>
              <a:endCxn id="198" idx="2"/>
            </p:cNvCxnSpPr>
            <p:nvPr/>
          </p:nvCxnSpPr>
          <p:spPr>
            <a:xfrm flipV="1">
              <a:off x="4725360" y="3257640"/>
              <a:ext cx="3240" cy="228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95242"/>
            <p:cNvCxnSpPr>
              <a:stCxn id="201" idx="0"/>
              <a:endCxn id="198" idx="2"/>
            </p:cNvCxnSpPr>
            <p:nvPr/>
          </p:nvCxnSpPr>
          <p:spPr>
            <a:xfrm flipH="1" flipV="1" rot="5400000">
              <a:off x="3170520" y="1931760"/>
              <a:ext cx="228600" cy="2880720"/>
            </a:xfrm>
            <a:prstGeom prst="bentConnector3">
              <a:avLst>
                <a:gd name="adj1" fmla="val 4952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8" name="_s95238"/>
            <p:cNvSpPr/>
            <p:nvPr/>
          </p:nvSpPr>
          <p:spPr>
            <a:xfrm>
              <a:off x="2445480" y="1839960"/>
              <a:ext cx="4556520" cy="14180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Arial"/>
                </a:rPr>
                <a:t>Evaluarea calităţii managementulu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o-RO" sz="2000" spc="-1" strike="noStrike">
                  <a:solidFill>
                    <a:srgbClr val="ffffff"/>
                  </a:solidFill>
                  <a:latin typeface="Arial"/>
                </a:rPr>
                <a:t>şi a competenţelor profesiona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95239"/>
            <p:cNvSpPr/>
            <p:nvPr/>
          </p:nvSpPr>
          <p:spPr>
            <a:xfrm>
              <a:off x="609480" y="3486600"/>
              <a:ext cx="2468520" cy="1015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A)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Inspectori şcolar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gener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95240"/>
            <p:cNvSpPr/>
            <p:nvPr/>
          </p:nvSpPr>
          <p:spPr>
            <a:xfrm>
              <a:off x="3489840" y="3486600"/>
              <a:ext cx="2467800" cy="1015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Inspectori şcolar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de specialit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95241"/>
            <p:cNvSpPr/>
            <p:nvPr/>
          </p:nvSpPr>
          <p:spPr>
            <a:xfrm>
              <a:off x="6369840" y="3486600"/>
              <a:ext cx="2468520" cy="10155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C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800" spc="-1" strike="noStrike">
                  <a:solidFill>
                    <a:srgbClr val="ffffff"/>
                  </a:solidFill>
                  <a:latin typeface="Arial"/>
                </a:rPr>
                <a:t>Directori de şco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95246"/>
            <p:cNvSpPr/>
            <p:nvPr/>
          </p:nvSpPr>
          <p:spPr>
            <a:xfrm>
              <a:off x="3192120" y="4730400"/>
              <a:ext cx="3060000" cy="97776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76320">
              <a:solidFill>
                <a:srgbClr val="ff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ffffff"/>
                  </a:solidFill>
                  <a:latin typeface="Arial"/>
                </a:rPr>
                <a:t>Procesu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2400" spc="-1" strike="noStrike">
                  <a:solidFill>
                    <a:srgbClr val="ffffff"/>
                  </a:solidFill>
                  <a:latin typeface="Arial"/>
                </a:rPr>
                <a:t>instructiv-educat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312408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NCLUZII GENERALE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pectori şcolari de speciali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68544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00"/>
                </a:solidFill>
                <a:latin typeface="Arial"/>
              </a:rPr>
              <a:t>Aspecte poz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66"/>
                </a:solidFill>
                <a:latin typeface="Arial"/>
              </a:rPr>
              <a:t>Aspecte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proiectarea activităţii fără o diagnoză a stării învăţământului la specialitatea respectivă şi fără indicatori de performanţ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bază de date incompletă ( lipsa evidenţei şefilor de catedră, a mijloacelor de învăţământ, a CDŞ-urilor, a criteriilor de selecţie a metodiştilor şi a membrilor Consiliului consultativ al profesorilor de specialitate,a instrumentelor, itemilor, procedurilor de evaluare elaborate şi aplicate în şcol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influenţa elementelor subiective (vârsta, gradul didactic, activitatea profesională precedentă) în activitatea de consiliere şi evaluare a cadrelor didactice/directorilo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econcordanţa dîntre realitatea din şcoli şi rapoartele de inspecţie şi calificativele acordat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eacordarea atenţiei necesare elementelor de metodică a predării disciplinelor/ modulelor tehnologice şi implementării elementelor de reformă privind modernizarea învăţământului profesional şi tehnic (curriculumul modular, utilizarea standardelor de pregătire profesională, învăţarea centrată pe elev, evaluare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eidentificarea punctelor tari şi a punctelor slabe cu privire la activitatea desfăşura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lipsa concluziilor concrete legate de problemele sesizate în activitatea desfăşurată şi a planurilor de măsu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1066680"/>
            <a:ext cx="45720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istenţa fişei postului şi a CV-ulu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istenţa mapei pentru domeniul de care răspunde şi pentru unităţile şcolare  pe care le coordonează;</a:t>
            </a:r>
            <a:br>
              <a:rPr sz="1800"/>
            </a:b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istenţa documentelor de proiectare a activităţii şi a rapoartelor periodic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idenţa cadrelor didactice de specialita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videnţa rezultatelor privind concursurile şcolare şi examenele naţional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xistenţa corespondenţei cu M.Ed.C. şi cu alte instituţi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rectori de unităţi şco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68544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00"/>
                </a:solidFill>
                <a:latin typeface="Arial"/>
              </a:rPr>
              <a:t>Aspecte poz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n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majoritatea unităţilor de învăţământ inspectat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xistă Proiectul de dezvoltare a şcolii şi Planurile manageriale anuale şi semestria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xistă rapoarte de activitate anuale şi semestriale, coroborate cu planurile managerial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xistă fişele posturilor pentru directori şi fişele de atribuţii ale directorilor adjunc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ste constituit (prin decizie a directorului) şi funcţionează în mod regulamentar Consiliul de Administraţi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xistă graficul de desfăşurare şi tematica şedinţelor Consiliului de Administraţie (CA) şi a Consiliului Profesoral, procese verbale de la şedinţ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există registrul de evidenţă a deciziilor şi notelor de servici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au fost constituite şi numite prin decizie: Consiliul clasei, Consiliul elevilor, Comitetul de părinţi, Consiliul Consultativ al Părinţilor, Consiliul de Curriculum, Comisia de evaluare şi asigurare a calităţii, comisiile metodice,s.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8320" y="4568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66"/>
                </a:solidFill>
                <a:latin typeface="Arial"/>
              </a:rPr>
              <a:t>Aspecte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Formalismul monitorizăriii activităţii din şcoală reflectat în acordarea calificativelor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lipsa, la unele unităţi şcolare, a Proiectului de dezvoltare a şcolii  pe termen mediu şi lung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caracterul formal al documentelor elaborate, lipsa diagnozei, a planurilor operaţionale, a implicării resurselor umane, materiale şi informaţionale, a indicatorilor de performanţă, a procedurilor de evaluare şi monitoriza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proiectul planului de şcolarizare nu este fundamentat pe analiza dezvoltării socio-economice a judeţelor, pe consultarea cu agenţii economici  şi prin aplicarea prevederilor PRAI şi PLA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în unele unităţi de învăţământ nu există planuri semestriale sau există doar programe de activitate sau planuri de acţiuni semestria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u se realizează transpunerea în practică a planului operaţional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egistrele de procese verbale ale şedinţelor CP/CA sau de evidenţă a deciziilor nu sunt, în toate cazurile numero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u există registrul de evidenţă a deciziilor şi notelor de serviciu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conducerile unităţilor de învăţământ inspectate nu cunosc rolul Comisiei de evaluare şi asigurare a calităţii şi responsabilităţile acestei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management deficitar al informaţiei – documentele manageriale nu sunt cunoscute de profesori, Consiliul reprezentativ al părinţilor şi de Consiliul elevilor;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CDŞ-urile nu ţin cont de nevoile de formare ale elevilo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49"/>
              </a:spcBef>
              <a:buSzPct val="29623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24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ocesul instructiv- educativ</a:t>
            </a:r>
            <a:br>
              <a:rPr sz="2800"/>
            </a:b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re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ctivităţii personalului didac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00"/>
                </a:solidFill>
                <a:latin typeface="Arial"/>
              </a:rPr>
              <a:t>Aspecte poz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Planificări calendaristice întocmite în conformitate cu programele şcolare în vigoa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competenţe adecvate domeniului de specialitat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itmicitatea parcurgerii programei şcola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înlănţuirea logică a etapelor demersului didac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îmbinarea adecvată şi eficientă a strategiilor clasice şi moderne în  predare- învăţare- evalua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accesibilitatea limbajului de preda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centrarea  demersului didactic pe elev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ealizarea sumarizării lecţiilor pe baza  schemei  de pe tabl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diversitatea formelor de evaluare folos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66"/>
                </a:solidFill>
                <a:latin typeface="Arial"/>
              </a:rPr>
              <a:t>Aspecte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Lipsa proiectării pe unităţi de învăţa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neavizarea planificărilor calendaristic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unele cadre didactice care predau la şcoala de arte şi meserii nu utilizează standardele de pregătire profesională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omiterea precizării obiectivelor de referinţă şi a competenţelor specifice la începutul orei de curs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tendinţa de utilizare excesivă a metodelor expozitiv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centrarea demersului didactic pe profesor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absenţa diferenţierii şi individualizării procesului de predare- învăţare- evalua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utilizarea excesivă a evaluării frontal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lipsa materialelor didactice în desfăşurarea lecţiei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neutilizarea optimă a spaţiilor destinate desfăşurării lecţiilor cu caracter practic-aplicativ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Arial"/>
              </a:rPr>
              <a:t>lipsa preocupării pentru motivarea elevilor în activitatea de învăţar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49"/>
              </a:spcBef>
              <a:buSzPct val="296236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SzPct val="247214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24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ocesul instructiv- educativ</a:t>
            </a:r>
            <a:br>
              <a:rPr sz="2800"/>
            </a:b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valuarea atitudinii elevilor faţă de educaţia pe care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le-o furnizează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şcoal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00"/>
                </a:solidFill>
                <a:latin typeface="Arial"/>
              </a:rPr>
              <a:t>Aspecte poz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nteres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ul elevilor pentru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ctivităţile didactice organizate de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coal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articipa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activ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ă a elevilor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la lecţi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i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lorifica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ea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experienţ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ei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de viaţă şi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unoştinţel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n procesul de învăţa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ntocmirea de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portofli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individua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66"/>
                </a:solidFill>
                <a:latin typeface="Arial"/>
              </a:rPr>
              <a:t>Aspecte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laba activizare a clasei prin centrarea lecţiei pe profeso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aba colaborare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într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elev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i în cadrul orelor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imula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e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creativit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ăţii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uriozit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ăţii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elevilor</a:t>
            </a: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absenţa unei motivări adecvate pentru studiu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Inexistenţa unui sistem adecvat de valori şi atitudini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rata mare a absenteismului de la or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abandonul şcolar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incapacitatea elevului de a converti cunoştinţele teoretice în competenţe şi abilităţi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Arial"/>
              </a:rPr>
              <a:t>incapacitatea unor elevi de a se autoevalua obiectiv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DRUL NAŢIONAL PRIVIND ASIGURARE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este dezvoltat în conformitate cu Cadrul Comun de Asigurare a Calităţii pentru educaţie şi formare profesională adoptat de Comisia European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mplică desfăşurarea următoarelor proce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utoevaluarea  ( pe baza Manualului de Autoevalu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onitorizarea intern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onitorizarea extern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pecţia de validare a raportului de autoevaluare (pe baza Manualului de Inspecţie pentru validarea externă a autoevaluări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CEDURI PRIVIND ASIGURARE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 nivelul unităţilor de învăţământ profesional şi teh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aborare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anului de Acţiune al Şcolii, coordonată de conducerea şcolii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i aprobarea PAŞ în Consiliul de Administra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onitorizarea internă coordonată de Comisia pentru Evaluarea şi Asigurare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aborarea raportului de auto-evaluare de către Comisia pentru Evaluarea şi Asigurare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aborarea planului de îmbunătăţire a calităţii de către Comisia pentru Evaluarea şi Asigurare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Revizuirea Planului de Acţiune al Şcolii, coordonată de conducerea şcolii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i aprobarea PAŞ revizuit în Consiliul de Administra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PROCEDURI PRIVIND ASIGURARE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a nivelul inspectoratelor şco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aborarea rapoartelor sintetice ale monitorizării interne de către inspectorul general adjunct responsabil cu asigurarea calităţ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onitorizarea externă, sub coordonarea inspectorului general adjunct responsabil cu asigurarea calităţ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uarea vizitelor de inspecţie pentru validarea raportului de auto-evaluare, sub coordonarea inspectorului general adjunct responsabil cu asigurarea calităţ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vizarea planurilor de îmbunătăţire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 calităţii elaborate de şcol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către inspectorul general adjunct responsabil cu asigurarea calităţ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laborarea rapoartelor de inspecţi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entru validarea raportului de auto-evaluare, sub coordonarea inspectorului general adjunct responsabil cu asigurarea calităţ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LENDARUL APLICARII INSTRUMENTELOR DE ASIGURARE A CALITĂŢII   ÎN ÎPT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523880"/>
          <a:ext cx="8170920" cy="4519800"/>
        </p:xfrm>
        <a:graphic>
          <a:graphicData uri="http://schemas.openxmlformats.org/drawingml/2006/table">
            <a:tbl>
              <a:tblPr/>
              <a:tblGrid>
                <a:gridCol w="1676520"/>
                <a:gridCol w="2743200"/>
                <a:gridCol w="380880"/>
                <a:gridCol w="457200"/>
                <a:gridCol w="380880"/>
                <a:gridCol w="457200"/>
                <a:gridCol w="381240"/>
                <a:gridCol w="457200"/>
                <a:gridCol w="855720"/>
                <a:gridCol w="3808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EN / PERIOAD</a:t>
                      </a: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ivelul scol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ivelu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J / ISM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1-15.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are formular monitorizare intern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borare raport sintetic monitorizare internă şi transmiterea lui  la CNDI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izare extern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borare raport sintetic al monitorizării externe şi transmiterea lui la CNDIP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CALENDARUL APLICARII INSTRUMENTELOR DE ASIGURARE A CALITĂŢII   ÎN ÎPT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263600"/>
          <a:ext cx="8229600" cy="5457960"/>
        </p:xfrm>
        <a:graphic>
          <a:graphicData uri="http://schemas.openxmlformats.org/drawingml/2006/table">
            <a:tbl>
              <a:tblPr/>
              <a:tblGrid>
                <a:gridCol w="2209680"/>
                <a:gridCol w="2971800"/>
                <a:gridCol w="457200"/>
                <a:gridCol w="381240"/>
                <a:gridCol w="685800"/>
                <a:gridCol w="653760"/>
                <a:gridCol w="489240"/>
                <a:gridCol w="3808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EN / PERIOAD</a:t>
                      </a: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ivelul scol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nivelul ISJ / ISM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5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9-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borarea raportului de auto-evalu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borarea planului de îmbunătăţire a calităţ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uarea vizitelor de inspecţie pentru validarea raportului de autoevaluar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izarea planurilor de îmbunătăţire a calităţii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borarea rapoartelor de inspecţie pentru validarea rapoartelor de autoevaluare şi transmiterea lor la </a:t>
                      </a:r>
                      <a:r>
                        <a:rPr b="1" lang="ro-RO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NDIPT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Inspecţia şcolară şi evaluarea instituţională</a:t>
            </a:r>
            <a:br>
              <a:rPr sz="3600"/>
            </a:b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nul şcolar 2005 -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52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INISTERUL EDUCAŢIEI ŞI CERCETĂR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irecţia Generală Învăţământ Preunivers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52280"/>
            <a:ext cx="444240" cy="5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FUNCŢ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diagnoză, prognoză şi prospecţie a sistemului de învăţământ pe o perioadă determinat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planificare şi organizare a sistemului de învăţămâ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orientare şi îndrumare metodologică a procesului de predare – învăţare – evalua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monitorizare a eliminării disfuncţiilo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reglare/autoreglare atât a sistemului de învăţământ, cât şi a procesului de învăţămâ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ţia de sprijin şi consiliere a instituţiilor şi unităţilor de învăţămâ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OBI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valuarea calităţii managementului şi a competenţelor profesionale ale inspectorilor şcolari generali, de specialitate, directorilor de şcoli, metodiştil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valuarea şi consilierea cadrelor didactice în vederea îmbunătăţirii activităţii de predare – învăţare – evalu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valuarea calităţii ofertei educaţionale realizată de unitatea şcolară şi a nivelului standardelor educaţionale atinse de elev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valuarea calităţii procesului de formare continuă a cadrelor didactic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valuarea calităţii proiectelor şi a programelor realizate de către inspectorate şi şcoli, prin parteneriatul educaţ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9:04:12Z</dcterms:created>
  <dc:creator>master</dc:creator>
  <dc:description/>
  <dc:language>en-US</dc:language>
  <cp:lastModifiedBy>Roxana Jianu</cp:lastModifiedBy>
  <dcterms:modified xsi:type="dcterms:W3CDTF">2007-01-18T12:13:53Z</dcterms:modified>
  <cp:revision>103</cp:revision>
  <dc:subject/>
  <dc:title>CURRICULUM ŞI INSPECŢIE ŞCOLARĂ</dc:title>
</cp:coreProperties>
</file>